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741D-1B13-4EF4-A95E-4AFAB581956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2270-8571-4807-887E-692399E3AE0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4276-645F-4B1C-BCA6-B304E945A56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7251-DF56-4BC2-B00E-E0BB6D9FE2D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77A9-F1C9-424A-9582-B3C06EED8BA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20D1-676F-471A-BE89-6575F05A097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8233-4BAF-4114-9A1C-EA29CC43673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ADF9-B9FA-4CEF-A41F-1BAD50A5FC0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6FC2-B4B2-49C7-B37A-BD3E40ABBD6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D15E-33C1-484D-89BA-584681D1C32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BE38-EA03-421A-BAC1-6DF78453D75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429E-A4C5-4440-A306-8C5AF9684A3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19DD-901A-410D-9CB1-AE3AA10724E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A09F-E24F-44CE-B41B-7F7BFF91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A96-6F04-445E-9B60-553862CB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901-4823-466A-9FE0-F8970DDF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2543-1664-4887-8DA9-9DF6B0A0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3239-1D50-4DA2-AB09-9CDCAFCD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AD3F-7E46-49B6-897A-B9C07F23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DDCC-1D2E-4502-A38C-B4764A45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E8CD-9DC4-4812-B219-7C1ED049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355-4AB5-4AFF-AF5E-EB0E27FA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CA7E-5CD9-417B-A969-BFC52E69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7639-E8DA-48BB-AB33-81A2F712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3676-FF8F-41FE-BAF5-8575D8AB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C200-C88D-4AE1-AE76-F7834CB8884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chtung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9903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ffe lade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l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de 4. Sch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7 sek. Wartezeit zum 5. Sch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Ende_Schuss.mp3" descr=""/>
          <p:cNvPicPr/>
          <p:nvPr/>
        </p:nvPicPr>
        <p:blipFill>
          <a:blip r:embed="rId1"/>
          <a:stretch/>
        </p:blipFill>
        <p:spPr>
          <a:xfrm>
            <a:off x="4368960" y="3225960"/>
            <a:ext cx="406080" cy="40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73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li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3 sek. Schießz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5. Sch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Anfang-kurz.mp3" descr=""/>
          <p:cNvPicPr/>
          <p:nvPr/>
        </p:nvPicPr>
        <p:blipFill>
          <a:blip r:embed="rId1"/>
          <a:stretch/>
        </p:blipFill>
        <p:spPr>
          <a:xfrm>
            <a:off x="4368960" y="3225960"/>
            <a:ext cx="406080" cy="40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16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l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de 5. Sch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7 sek. Wartezeitz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Ende.mp3" descr=""/>
          <p:cNvPicPr/>
          <p:nvPr/>
        </p:nvPicPr>
        <p:blipFill>
          <a:blip r:embed="rId1"/>
          <a:stretch/>
        </p:blipFill>
        <p:spPr>
          <a:xfrm>
            <a:off x="4368960" y="3225960"/>
            <a:ext cx="406080" cy="40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9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7 sek. Wartez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Ende_Schuss.mp3" descr=""/>
          <p:cNvPicPr/>
          <p:nvPr/>
        </p:nvPicPr>
        <p:blipFill>
          <a:blip r:embed="rId1"/>
          <a:stretch/>
        </p:blipFill>
        <p:spPr>
          <a:xfrm>
            <a:off x="4368960" y="3225960"/>
            <a:ext cx="406080" cy="40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73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li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3 sek. Schießz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. Sch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Anfang-kurz.mp3" descr=""/>
          <p:cNvPicPr/>
          <p:nvPr/>
        </p:nvPicPr>
        <p:blipFill>
          <a:blip r:embed="rId1"/>
          <a:stretch/>
        </p:blipFill>
        <p:spPr>
          <a:xfrm>
            <a:off x="4368960" y="3225960"/>
            <a:ext cx="406080" cy="40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1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l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de 1. Sch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7 sek. Wartezeit zum 2. Sch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Ende_Schuss.mp3" descr=""/>
          <p:cNvPicPr/>
          <p:nvPr/>
        </p:nvPicPr>
        <p:blipFill>
          <a:blip r:embed="rId1"/>
          <a:stretch/>
        </p:blipFill>
        <p:spPr>
          <a:xfrm>
            <a:off x="4368960" y="3225960"/>
            <a:ext cx="406080" cy="40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73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li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3 sek. Schießz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. Sch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Anfang-kurz.mp3" descr=""/>
          <p:cNvPicPr/>
          <p:nvPr/>
        </p:nvPicPr>
        <p:blipFill>
          <a:blip r:embed="rId1"/>
          <a:stretch/>
        </p:blipFill>
        <p:spPr>
          <a:xfrm>
            <a:off x="4368960" y="3225960"/>
            <a:ext cx="406080" cy="40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16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l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de 2. Sch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7 sek. Wartezeit zum 3. Sch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Ende_Schuss.mp3" descr=""/>
          <p:cNvPicPr/>
          <p:nvPr/>
        </p:nvPicPr>
        <p:blipFill>
          <a:blip r:embed="rId1"/>
          <a:stretch/>
        </p:blipFill>
        <p:spPr>
          <a:xfrm>
            <a:off x="4368960" y="3225960"/>
            <a:ext cx="406080" cy="40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7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li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3 sek. Schießz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3. Sch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Anfang-kurz.mp3" descr=""/>
          <p:cNvPicPr/>
          <p:nvPr/>
        </p:nvPicPr>
        <p:blipFill>
          <a:blip r:embed="rId1"/>
          <a:stretch/>
        </p:blipFill>
        <p:spPr>
          <a:xfrm>
            <a:off x="4368960" y="3225960"/>
            <a:ext cx="406080" cy="40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1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l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nde 3. Sch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7 sek. Wartezeit zum 4. Sch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Ende_Schuss.mp3" descr=""/>
          <p:cNvPicPr/>
          <p:nvPr/>
        </p:nvPicPr>
        <p:blipFill>
          <a:blip r:embed="rId1"/>
          <a:stretch/>
        </p:blipFill>
        <p:spPr>
          <a:xfrm>
            <a:off x="4368960" y="3225960"/>
            <a:ext cx="406080" cy="40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7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li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3 sek. Schießz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4. Sch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Anfang-kurz.mp3" descr=""/>
          <p:cNvPicPr/>
          <p:nvPr/>
        </p:nvPicPr>
        <p:blipFill>
          <a:blip r:embed="rId1"/>
          <a:stretch/>
        </p:blipFill>
        <p:spPr>
          <a:xfrm>
            <a:off x="4368960" y="3225960"/>
            <a:ext cx="406080" cy="40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16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10:58:57Z</dcterms:created>
  <dc:creator>Firmenlizenz Hubert Burda Media</dc:creator>
  <dc:description/>
  <dc:language>en-US</dc:language>
  <cp:lastModifiedBy>Arno Weis</cp:lastModifiedBy>
  <dcterms:modified xsi:type="dcterms:W3CDTF">2015-09-07T14:42:13Z</dcterms:modified>
  <cp:revision>6</cp:revision>
  <dc:subject/>
  <dc:title>Achtung...</dc:title>
</cp:coreProperties>
</file>